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6DC-9411-49D4-8CA8-343812DB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1904-9687-4664-B07F-5856D6AF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EB3-E60B-4FDC-BB56-A108AE62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0A31-F4FF-40F0-849B-36060D2A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45E3-7331-44D2-98F6-8E1480D8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02A2-F482-490F-86F8-9E716696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0BE9-843E-46B3-B5A4-45087FAF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A3D1-58F2-42E8-A765-8E670770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FC1C-C5F7-4748-BAF5-0DB90134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FBEB-7552-4FE5-952A-50AFEA52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C0CA-7110-4E38-9C32-C9C3E04C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A688-65B1-4EB4-B3B2-CA4BA07E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E8C8-60EA-430F-B992-BA8669DF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4600-011D-4DCF-94CB-AB5455E3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0880-3C24-4B2D-BED3-52E000AE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CA7F-A876-425A-B40A-185EA993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1494-B2D7-4BD4-AE8F-2E2C3F0D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E80-49B3-4983-B972-9E01D09A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ECA9-2AFA-4438-ABD5-96601B10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BA8-2AFC-49F1-B752-F4785A00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91C6-9A49-4FF9-9BDA-79C2FD2A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A650-44D4-4532-B044-5A01D12A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6AC-E647-4936-8AB1-52960171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E7F8-2A5F-4387-A509-D63BD951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3DEF-32AC-4122-A100-DFC66FE3F57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C788-B52C-44D4-9AD1-135DD279D83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A885E-D873-4AC4-BFE4-59EC2AECF80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Открытый урок в 7 класс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: «Свойства степени с натуральным показател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Попова Ольг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39A5-8088-41E1-B5E7-5031C366192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апомнит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826920" y="2492280"/>
            <a:ext cx="8066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умножении степеней с одинаковыми основаниями показатели складыв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делении степеней с одинаковыми основаниями показатели вычит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возведении степени в степ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казатели перемножаются, а основание остается неизменным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B9A2-7499-4E63-8312-F46B019A889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войства степеней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4"/>
          <p:cNvGrpSpPr/>
          <p:nvPr/>
        </p:nvGrpSpPr>
        <p:grpSpPr>
          <a:xfrm>
            <a:off x="971640" y="2422440"/>
            <a:ext cx="5113080" cy="4175280"/>
            <a:chOff x="971640" y="2422440"/>
            <a:chExt cx="5113080" cy="4175280"/>
          </a:xfrm>
        </p:grpSpPr>
        <p:sp>
          <p:nvSpPr>
            <p:cNvPr id="168" name="AutoShape 7"/>
            <p:cNvSpPr/>
            <p:nvPr/>
          </p:nvSpPr>
          <p:spPr>
            <a:xfrm>
              <a:off x="971640" y="2422440"/>
              <a:ext cx="5113080" cy="4175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2"/>
                <p:cNvSpPr txBox="1"/>
                <p:nvPr/>
              </p:nvSpPr>
              <p:spPr>
                <a:xfrm>
                  <a:off x="1160280" y="2422440"/>
                  <a:ext cx="4878000" cy="404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: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sSup>
                            <m:e/>
                            <m:sup/>
                          </m:sSup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limUpp>
                            <m:e/>
                            <m:lim/>
                          </m:limUpp>
                          <m:r>
                            <m:t xml:space="preserve">b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F08B-1053-4B13-8879-2EEEADABB8F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Высказывания Козьмы Прутков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2414520" y="2970360"/>
                <a:ext cx="8701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4"/>
              <p:cNvSpPr txBox="1"/>
              <p:nvPr/>
            </p:nvSpPr>
            <p:spPr>
              <a:xfrm>
                <a:off x="2338560" y="4602240"/>
                <a:ext cx="9126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6"/>
              <p:cNvSpPr txBox="1"/>
              <p:nvPr/>
            </p:nvSpPr>
            <p:spPr>
              <a:xfrm>
                <a:off x="2338560" y="3794040"/>
                <a:ext cx="12254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2560" y="220500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преобразования. Используя найденные ответы, запишите в таблицах два высказывания Козьмы Прутко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902520" y="2986200"/>
            <a:ext cx="11455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ч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8"/>
              <p:cNvSpPr txBox="1"/>
              <p:nvPr/>
            </p:nvSpPr>
            <p:spPr>
              <a:xfrm>
                <a:off x="2343240" y="3416400"/>
                <a:ext cx="860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8"/>
              <p:cNvSpPr txBox="1"/>
              <p:nvPr/>
            </p:nvSpPr>
            <p:spPr>
              <a:xfrm>
                <a:off x="2340000" y="4959360"/>
                <a:ext cx="865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0"/>
              <p:cNvSpPr txBox="1"/>
              <p:nvPr/>
            </p:nvSpPr>
            <p:spPr>
              <a:xfrm>
                <a:off x="2338560" y="4168800"/>
                <a:ext cx="11523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31"/>
          <p:cNvSpPr/>
          <p:nvPr/>
        </p:nvSpPr>
        <p:spPr>
          <a:xfrm>
            <a:off x="4029120" y="2986200"/>
            <a:ext cx="1748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рявш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ан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2"/>
              <p:cNvSpPr txBox="1"/>
              <p:nvPr/>
            </p:nvSpPr>
            <p:spPr>
              <a:xfrm>
                <a:off x="2340000" y="5394240"/>
                <a:ext cx="895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3"/>
              <p:cNvSpPr txBox="1"/>
              <p:nvPr/>
            </p:nvSpPr>
            <p:spPr>
              <a:xfrm>
                <a:off x="2340000" y="5897520"/>
                <a:ext cx="83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4"/>
              <p:cNvSpPr txBox="1"/>
              <p:nvPr/>
            </p:nvSpPr>
            <p:spPr>
              <a:xfrm>
                <a:off x="6051600" y="2924280"/>
                <a:ext cx="161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5"/>
              <p:cNvSpPr txBox="1"/>
              <p:nvPr/>
            </p:nvSpPr>
            <p:spPr>
              <a:xfrm>
                <a:off x="6049800" y="3362400"/>
                <a:ext cx="1690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6"/>
              <p:cNvSpPr txBox="1"/>
              <p:nvPr/>
            </p:nvSpPr>
            <p:spPr>
              <a:xfrm>
                <a:off x="6046920" y="3851280"/>
                <a:ext cx="865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Picture 38" descr=""/>
          <p:cNvPicPr/>
          <p:nvPr/>
        </p:nvPicPr>
        <p:blipFill>
          <a:blip r:embed="rId1"/>
          <a:stretch/>
        </p:blipFill>
        <p:spPr>
          <a:xfrm>
            <a:off x="3987720" y="5105520"/>
            <a:ext cx="5048280" cy="771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9" descr=""/>
          <p:cNvPicPr/>
          <p:nvPr/>
        </p:nvPicPr>
        <p:blipFill>
          <a:blip r:embed="rId2"/>
          <a:stretch/>
        </p:blipFill>
        <p:spPr>
          <a:xfrm>
            <a:off x="3997440" y="5877000"/>
            <a:ext cx="503856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4462-642E-4377-B5B3-346A009C8F1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13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826920" y="2492280"/>
            <a:ext cx="8209080" cy="1253880"/>
            <a:chOff x="826920" y="2492280"/>
            <a:chExt cx="8209080" cy="1253880"/>
          </a:xfrm>
        </p:grpSpPr>
        <p:pic>
          <p:nvPicPr>
            <p:cNvPr id="201" name="Picture 27" descr=""/>
            <p:cNvPicPr/>
            <p:nvPr/>
          </p:nvPicPr>
          <p:blipFill>
            <a:blip r:embed="rId1"/>
            <a:stretch/>
          </p:blipFill>
          <p:spPr>
            <a:xfrm>
              <a:off x="826920" y="2492280"/>
              <a:ext cx="8209080" cy="12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33"/>
            <p:cNvSpPr/>
            <p:nvPr/>
          </p:nvSpPr>
          <p:spPr>
            <a:xfrm>
              <a:off x="971640" y="3213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что       имеем        не       храним       потерявши      плаче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38"/>
          <p:cNvSpPr/>
          <p:nvPr/>
        </p:nvSpPr>
        <p:spPr>
          <a:xfrm>
            <a:off x="883800" y="3860640"/>
            <a:ext cx="569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имеем не храним, потерявши плач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4"/>
          <p:cNvGrpSpPr/>
          <p:nvPr/>
        </p:nvGrpSpPr>
        <p:grpSpPr>
          <a:xfrm>
            <a:off x="826920" y="4656240"/>
            <a:ext cx="8209080" cy="1271520"/>
            <a:chOff x="826920" y="4656240"/>
            <a:chExt cx="8209080" cy="1271520"/>
          </a:xfrm>
        </p:grpSpPr>
        <p:pic>
          <p:nvPicPr>
            <p:cNvPr id="205" name="Picture 28" descr=""/>
            <p:cNvPicPr/>
            <p:nvPr/>
          </p:nvPicPr>
          <p:blipFill>
            <a:blip r:embed="rId2"/>
            <a:stretch/>
          </p:blipFill>
          <p:spPr>
            <a:xfrm>
              <a:off x="826920" y="4656240"/>
              <a:ext cx="8209080" cy="12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42"/>
            <p:cNvSpPr/>
            <p:nvPr/>
          </p:nvSpPr>
          <p:spPr>
            <a:xfrm>
              <a:off x="971640" y="5310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   </a:t>
              </a: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хочешь            быть          счастливым          будь         и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3"/>
          <p:cNvSpPr/>
          <p:nvPr/>
        </p:nvSpPr>
        <p:spPr>
          <a:xfrm>
            <a:off x="900000" y="6097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 быть счастливым - будь 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C2ED-9C28-4E8A-9D55-E5ABA71A044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Магический квадрат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2"/>
          <p:cNvGrpSpPr/>
          <p:nvPr/>
        </p:nvGrpSpPr>
        <p:grpSpPr>
          <a:xfrm>
            <a:off x="755640" y="2476440"/>
            <a:ext cx="8280360" cy="1099440"/>
            <a:chOff x="755640" y="2476440"/>
            <a:chExt cx="8280360" cy="1099440"/>
          </a:xfrm>
        </p:grpSpPr>
        <p:sp>
          <p:nvSpPr>
            <p:cNvPr id="216" name="Text Box 16"/>
            <p:cNvSpPr/>
            <p:nvPr/>
          </p:nvSpPr>
          <p:spPr>
            <a:xfrm>
              <a:off x="755640" y="2476440"/>
              <a:ext cx="82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Заполните свободные клетки квадрата так, чтобы произведение выражений каждого столбца, каждой строки и диагонали равнялос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21"/>
                <p:cNvSpPr txBox="1"/>
                <p:nvPr/>
              </p:nvSpPr>
              <p:spPr>
                <a:xfrm>
                  <a:off x="3708360" y="3114720"/>
                  <a:ext cx="45576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8" name="Picture 23" descr=""/>
          <p:cNvPicPr/>
          <p:nvPr/>
        </p:nvPicPr>
        <p:blipFill>
          <a:blip r:embed="rId1"/>
          <a:stretch/>
        </p:blipFill>
        <p:spPr>
          <a:xfrm>
            <a:off x="3706920" y="3691080"/>
            <a:ext cx="1944720" cy="18986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5"/>
          <p:cNvSpPr/>
          <p:nvPr/>
        </p:nvSpPr>
        <p:spPr>
          <a:xfrm>
            <a:off x="755640" y="58104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ой квадрат называется </a:t>
            </a:r>
            <a:r>
              <a:rPr b="1" lang="ru-RU" sz="2200" spc="-1" strike="noStrike">
                <a:solidFill>
                  <a:srgbClr val="cc0099"/>
                </a:solidFill>
                <a:latin typeface="Arial"/>
              </a:rPr>
              <a:t>магическ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617E-D22B-429A-AD29-17C7B2F7D82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начения числовых выражений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755640" y="2698920"/>
            <a:ext cx="345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йдите в круж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ения числов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нных в овал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ите их ли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9" descr=""/>
          <p:cNvPicPr/>
          <p:nvPr/>
        </p:nvPicPr>
        <p:blipFill>
          <a:blip r:embed="rId1"/>
          <a:stretch/>
        </p:blipFill>
        <p:spPr>
          <a:xfrm>
            <a:off x="4368960" y="2347920"/>
            <a:ext cx="43066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98C8-5888-4448-94C6-92480BD299C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2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28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36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Rectangle 44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5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307040" cy="4176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9"/>
          <p:cNvSpPr/>
          <p:nvPr/>
        </p:nvSpPr>
        <p:spPr>
          <a:xfrm rot="3721800">
            <a:off x="4739760" y="3806640"/>
            <a:ext cx="2441520" cy="15433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3"/>
          <p:cNvSpPr/>
          <p:nvPr/>
        </p:nvSpPr>
        <p:spPr>
          <a:xfrm flipH="1" rot="14641800">
            <a:off x="3242160" y="4307400"/>
            <a:ext cx="2016360" cy="18432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4"/>
          <p:cNvSpPr/>
          <p:nvPr/>
        </p:nvSpPr>
        <p:spPr>
          <a:xfrm flipH="1" rot="7732800">
            <a:off x="4515480" y="3511440"/>
            <a:ext cx="2376720" cy="1655640"/>
          </a:xfrm>
          <a:prstGeom prst="pi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5"/>
          <p:cNvSpPr/>
          <p:nvPr/>
        </p:nvSpPr>
        <p:spPr>
          <a:xfrm flipH="1" flipV="1" rot="6475800">
            <a:off x="4102560" y="2526840"/>
            <a:ext cx="1512720" cy="230508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EA70-D344-4693-960B-7A472A2A7AE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орный консп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7,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66(в, г), №579, №5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ежающее задание: составить тематический сборник ( по желан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369C-45CB-449F-998A-0037FF0AEA0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Дострой прямоугольник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штрихованный квадрат изображает записанное в нем число. Дочертите прямоугольник, который будет изображать указанное под ним числ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3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6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76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Rectangle 88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100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04" descr=""/>
          <p:cNvPicPr/>
          <p:nvPr/>
        </p:nvPicPr>
        <p:blipFill>
          <a:blip r:embed="rId1"/>
          <a:stretch/>
        </p:blipFill>
        <p:spPr>
          <a:xfrm>
            <a:off x="5049720" y="3541680"/>
            <a:ext cx="326736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3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3317760" cy="1187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2" descr=""/>
          <p:cNvPicPr/>
          <p:nvPr/>
        </p:nvPicPr>
        <p:blipFill>
          <a:blip r:embed="rId3"/>
          <a:stretch/>
        </p:blipFill>
        <p:spPr>
          <a:xfrm>
            <a:off x="1116000" y="5013360"/>
            <a:ext cx="3297240" cy="1255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1" descr=""/>
          <p:cNvPicPr/>
          <p:nvPr/>
        </p:nvPicPr>
        <p:blipFill>
          <a:blip r:embed="rId4"/>
          <a:stretch/>
        </p:blipFill>
        <p:spPr>
          <a:xfrm>
            <a:off x="5076720" y="5013360"/>
            <a:ext cx="3238560" cy="12272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0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11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28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Rectangle 140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1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152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3A5F-8925-4703-A0D4-6EB32CF514A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Какое число изображает круг?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найте, какое число изображает круг, если заштрихованная часть изображает указанное число. Ответ запишите в виде степ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2" descr=""/>
          <p:cNvPicPr/>
          <p:nvPr/>
        </p:nvPicPr>
        <p:blipFill>
          <a:blip r:embed="rId1"/>
          <a:stretch/>
        </p:blipFill>
        <p:spPr>
          <a:xfrm>
            <a:off x="4859280" y="387684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1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1712880" cy="1694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0" descr=""/>
          <p:cNvPicPr/>
          <p:nvPr/>
        </p:nvPicPr>
        <p:blipFill>
          <a:blip r:embed="rId3"/>
          <a:stretch/>
        </p:blipFill>
        <p:spPr>
          <a:xfrm>
            <a:off x="755640" y="396864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9" descr=""/>
          <p:cNvPicPr/>
          <p:nvPr/>
        </p:nvPicPr>
        <p:blipFill>
          <a:blip r:embed="rId4"/>
          <a:stretch/>
        </p:blipFill>
        <p:spPr>
          <a:xfrm>
            <a:off x="2843280" y="3933720"/>
            <a:ext cx="1662120" cy="16430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Rectangle 3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46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58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70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B4D1-B984-4190-97CC-C7066222BDF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5640" y="1035720"/>
            <a:ext cx="781524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Тема урока: «Свойства степени </a:t>
            </a:r>
            <a:br>
              <a:rPr sz="3400"/>
            </a:b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 натуральным показателем»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Text Box 51"/>
          <p:cNvSpPr/>
          <p:nvPr/>
        </p:nvSpPr>
        <p:spPr>
          <a:xfrm>
            <a:off x="755640" y="2349360"/>
            <a:ext cx="8012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cc"/>
                </a:solidFill>
                <a:latin typeface="Arial"/>
              </a:rPr>
              <a:t>Цели ур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Образов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свойств степени с натуральным показателем; совершенствование  вычислительных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Развивающи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атематического и обще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озора, мышления и речи, внимания и памяти; формирование  умений применять приемы наблюдения, сравнения, анали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Воспит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оспитание интереса к математике и ее приложениям, активности, обще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C20C-5B72-4560-B9F8-CDE3ED2EFB3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История создания современной теории степеней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3" name="Picture 6" descr="img001"/>
          <p:cNvPicPr/>
          <p:nvPr/>
        </p:nvPicPr>
        <p:blipFill>
          <a:blip r:embed="rId1"/>
          <a:stretch/>
        </p:blipFill>
        <p:spPr>
          <a:xfrm>
            <a:off x="826920" y="3462480"/>
            <a:ext cx="1368720" cy="28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g001"/>
          <p:cNvPicPr/>
          <p:nvPr/>
        </p:nvPicPr>
        <p:blipFill>
          <a:blip r:embed="rId2"/>
          <a:stretch/>
        </p:blipFill>
        <p:spPr>
          <a:xfrm>
            <a:off x="2050920" y="3429000"/>
            <a:ext cx="1173240" cy="29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mg001"/>
          <p:cNvPicPr/>
          <p:nvPr/>
        </p:nvPicPr>
        <p:blipFill>
          <a:blip r:embed="rId3"/>
          <a:stretch/>
        </p:blipFill>
        <p:spPr>
          <a:xfrm>
            <a:off x="3203640" y="3573360"/>
            <a:ext cx="2171520" cy="115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mg001"/>
          <p:cNvPicPr/>
          <p:nvPr/>
        </p:nvPicPr>
        <p:blipFill>
          <a:blip r:embed="rId4"/>
          <a:stretch/>
        </p:blipFill>
        <p:spPr>
          <a:xfrm>
            <a:off x="5435640" y="3645000"/>
            <a:ext cx="3097080" cy="12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img001"/>
          <p:cNvPicPr/>
          <p:nvPr/>
        </p:nvPicPr>
        <p:blipFill>
          <a:blip r:embed="rId5"/>
          <a:stretch/>
        </p:blipFill>
        <p:spPr>
          <a:xfrm>
            <a:off x="3203640" y="5013360"/>
            <a:ext cx="208908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вычисления. Заполните таблицы буквами, учитывая найденные отв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img001"/>
          <p:cNvPicPr/>
          <p:nvPr/>
        </p:nvPicPr>
        <p:blipFill>
          <a:blip r:embed="rId6"/>
          <a:stretch/>
        </p:blipFill>
        <p:spPr>
          <a:xfrm>
            <a:off x="5508720" y="5013360"/>
            <a:ext cx="295092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1526-369C-4150-AA38-DDDB16C6848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7640" y="837000"/>
            <a:ext cx="778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имон Стевин и Рене Декарт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2" name="Picture 3" descr="декарт 2"/>
          <p:cNvPicPr/>
          <p:nvPr/>
        </p:nvPicPr>
        <p:blipFill>
          <a:blip r:embed="rId1"/>
          <a:stretch/>
        </p:blipFill>
        <p:spPr>
          <a:xfrm>
            <a:off x="5003640" y="278136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стевин"/>
          <p:cNvPicPr/>
          <p:nvPr/>
        </p:nvPicPr>
        <p:blipFill>
          <a:blip r:embed="rId2"/>
          <a:stretch/>
        </p:blipFill>
        <p:spPr>
          <a:xfrm>
            <a:off x="1547640" y="2781360"/>
            <a:ext cx="2320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E409-CF39-4D3D-9D73-A3CF5452C93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равнение выражени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6" name="Picture 7" descr="img002"/>
          <p:cNvPicPr/>
          <p:nvPr/>
        </p:nvPicPr>
        <p:blipFill>
          <a:blip r:embed="rId1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, не выполняя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верные неравенства. Из соответствующих им букв составьте фамилию архитектора, по проекту которого в 1825 году было построено здание Большого театра в Моск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Бо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ектам этого известного архитектора также были построены здания Манежа и Триумфальные ворота, создан проект Александров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img002"/>
          <p:cNvPicPr/>
          <p:nvPr/>
        </p:nvPicPr>
        <p:blipFill>
          <a:blip r:embed="rId2"/>
          <a:stretch/>
        </p:blipFill>
        <p:spPr>
          <a:xfrm>
            <a:off x="826920" y="3500280"/>
            <a:ext cx="1800360" cy="144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tretch/>
        </p:blipFill>
        <p:spPr>
          <a:xfrm>
            <a:off x="2411280" y="3525840"/>
            <a:ext cx="205740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БТ 2"/>
          <p:cNvPicPr/>
          <p:nvPr/>
        </p:nvPicPr>
        <p:blipFill>
          <a:blip r:embed="rId4"/>
          <a:stretch/>
        </p:blipFill>
        <p:spPr>
          <a:xfrm>
            <a:off x="4714920" y="3357720"/>
            <a:ext cx="3240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60EE-E265-41DC-BFB4-D8D9644DEFD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3680" y="853200"/>
            <a:ext cx="7751520" cy="119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Большая часть математических утверждений проходит в своем становлении три этапа. </a:t>
            </a:r>
            <a:endParaRPr b="1" lang="en-US" sz="3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55640" y="242100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перв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еловек в ряде конкретных случаев подмечает одну и ту же закономер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втор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сформулировать подмеченную закономерность в общем виде, т.е. предполагает, что эта закономерность действует не только в рассмотренных случаях, но и во всех других аналогичных случа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третье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доказать, что закономерность, сформулированная в общем виде, на самом деле вер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DE17-AC4B-4105-9932-A16F301A67B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перв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3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6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589880" cy="344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FB62-4AC8-4A4B-B9BA-3AD8098C5FF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втор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5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1"/>
          <a:stretch/>
        </p:blipFill>
        <p:spPr>
          <a:xfrm>
            <a:off x="784080" y="2727360"/>
            <a:ext cx="819792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ABBE-F6DE-4DEE-B527-CC0455BC148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треть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1258920" y="2924280"/>
            <a:ext cx="6985080" cy="2071440"/>
            <a:chOff x="1258920" y="2924280"/>
            <a:chExt cx="6985080" cy="2071440"/>
          </a:xfrm>
        </p:grpSpPr>
        <p:grpSp>
          <p:nvGrpSpPr>
            <p:cNvPr id="148" name="Group 18"/>
            <p:cNvGrpSpPr/>
            <p:nvPr/>
          </p:nvGrpSpPr>
          <p:grpSpPr>
            <a:xfrm>
              <a:off x="1258920" y="2924280"/>
              <a:ext cx="6985080" cy="2071440"/>
              <a:chOff x="1258920" y="2924280"/>
              <a:chExt cx="6985080" cy="2071440"/>
            </a:xfrm>
          </p:grpSpPr>
          <p:pic>
            <p:nvPicPr>
              <p:cNvPr id="149" name="Picture 14" descr=""/>
              <p:cNvPicPr/>
              <p:nvPr/>
            </p:nvPicPr>
            <p:blipFill>
              <a:blip r:embed="rId1"/>
              <a:srcRect l="0" t="0" r="0" b="18553"/>
              <a:stretch/>
            </p:blipFill>
            <p:spPr>
              <a:xfrm>
                <a:off x="1258920" y="2924280"/>
                <a:ext cx="6939000" cy="203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5"/>
              <p:cNvSpPr/>
              <p:nvPr/>
            </p:nvSpPr>
            <p:spPr>
              <a:xfrm>
                <a:off x="6804360" y="376560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6948720" y="462924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1690920" y="419112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19"/>
            <p:cNvSpPr/>
            <p:nvPr/>
          </p:nvSpPr>
          <p:spPr>
            <a:xfrm>
              <a:off x="1258920" y="4221000"/>
              <a:ext cx="1295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0" descr=""/>
            <p:cNvPicPr/>
            <p:nvPr/>
          </p:nvPicPr>
          <p:blipFill>
            <a:blip r:embed="rId2"/>
            <a:srcRect l="0" t="0" r="16863" b="0"/>
            <a:stretch/>
          </p:blipFill>
          <p:spPr>
            <a:xfrm>
              <a:off x="1908000" y="4600440"/>
              <a:ext cx="38592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37:33Z</dcterms:created>
  <dc:creator>Попова Екатерина</dc:creator>
  <dc:description/>
  <dc:language>en-US</dc:language>
  <cp:lastModifiedBy>ITcenterPC2</cp:lastModifiedBy>
  <dcterms:modified xsi:type="dcterms:W3CDTF">2009-09-29T11:17:07Z</dcterms:modified>
  <cp:revision>67</cp:revision>
  <dc:subject/>
  <dc:title>Слайд 1</dc:title>
</cp:coreProperties>
</file>